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2E9D-3C2B-4F0B-AA02-BEEAECE512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577FF-C3EE-48BA-BC7B-F1A88E204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21665-130D-4620-A927-E720B1903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CD13-1254-44DB-94B1-DC9E844766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81F59-8F0F-406D-BD6F-F37C32910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07FF-29DF-4E25-8FC4-DDCE4DD04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5FAF-FBCF-4930-B2A6-584B8144F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5BC0-53AE-4AC3-BA6C-012F0EB2F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0BD39-B8AF-4EDE-8B62-0D2C9A05F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CD1BA-31D7-44BB-8601-ADC7DC67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C8C9-7716-48A0-97CC-D9E1D1374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0C2F-DA79-4F09-B53A-EAAC472B5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250E6-53C0-46C2-9D83-C4BF2F5F53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1371600"/>
            <a:ext cx="3429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tMeta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lectionProcessingCompl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124080" y="152388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089360" y="1873080"/>
            <a:ext cx="21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mmands carried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messa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65960" y="1771560"/>
            <a:ext cx="259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Has an associated C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5028840" y="19810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565600" y="13525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flipH="1">
            <a:off x="5028840" y="15620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565600" y="2590920"/>
            <a:ext cx="203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System gener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5028840" y="280044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9T15:12:38Z</dcterms:modified>
  <cp:revision>16</cp:revision>
  <dc:subject/>
  <dc:title>Slide 1</dc:title>
</cp:coreProperties>
</file>