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0CE3E-82DD-4DD8-8BEE-044D84AE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1A32A-69CA-49EE-AAFD-FD8C51943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1FA-4C04-40E7-830D-0EF42115F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FBB29-7EE5-4BCF-9F4B-3D016FA555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C89AA-36C7-4FF6-BAFF-85DE5336E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C6EBD-DBBF-42FE-B749-5E87160B1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D1FC5-5EA4-4B5B-84B6-FFC5996E6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068-5FDE-4BFE-9CB1-920A3DD1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9D01-2108-427B-816E-B88A45E2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DB2A-BA18-4631-BD0A-DCD1C13C1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AA297-BE98-4022-90AD-F6C46B58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73DBF-3D71-48D8-96C2-E3F2A724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1FB4-9342-4D66-A499-DF7B6709A4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867280" y="2209680"/>
            <a:ext cx="1524240" cy="60984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oller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705720" y="2330280"/>
            <a:ext cx="609480" cy="381240"/>
          </a:xfrm>
          <a:prstGeom prst="ellips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6194520" y="3124080"/>
            <a:ext cx="380880" cy="304560"/>
            <a:chOff x="6194520" y="3124080"/>
            <a:chExt cx="380880" cy="304560"/>
          </a:xfrm>
        </p:grpSpPr>
        <p:sp>
          <p:nvSpPr>
            <p:cNvPr id="44" name=""/>
            <p:cNvSpPr/>
            <p:nvPr/>
          </p:nvSpPr>
          <p:spPr>
            <a:xfrm>
              <a:off x="61945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1945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" name=""/>
          <p:cNvSpPr/>
          <p:nvPr/>
        </p:nvSpPr>
        <p:spPr>
          <a:xfrm flipV="1">
            <a:off x="64231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432400" y="2806560"/>
            <a:ext cx="106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5410080" y="3505320"/>
            <a:ext cx="2667240" cy="1144800"/>
            <a:chOff x="5410080" y="3505320"/>
            <a:chExt cx="2667240" cy="1144800"/>
          </a:xfrm>
        </p:grpSpPr>
        <p:sp>
          <p:nvSpPr>
            <p:cNvPr id="49" name=""/>
            <p:cNvSpPr/>
            <p:nvPr/>
          </p:nvSpPr>
          <p:spPr>
            <a:xfrm>
              <a:off x="5410080" y="3505320"/>
              <a:ext cx="2590920" cy="11430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562720" y="3962520"/>
              <a:ext cx="457200" cy="152280"/>
            </a:xfrm>
            <a:prstGeom prst="rect">
              <a:avLst/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095880" y="388620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ActiveMQ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562720" y="4191120"/>
              <a:ext cx="457200" cy="152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6095880" y="41752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IMA Framewor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562720" y="4419720"/>
              <a:ext cx="457200" cy="15228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5880" y="4403880"/>
              <a:ext cx="1981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rovided by User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099120" y="3522600"/>
              <a:ext cx="93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ge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6651720" y="3124080"/>
            <a:ext cx="380880" cy="304560"/>
            <a:chOff x="6651720" y="3124080"/>
            <a:chExt cx="380880" cy="304560"/>
          </a:xfrm>
        </p:grpSpPr>
        <p:sp>
          <p:nvSpPr>
            <p:cNvPr id="58" name=""/>
            <p:cNvSpPr/>
            <p:nvPr/>
          </p:nvSpPr>
          <p:spPr>
            <a:xfrm>
              <a:off x="6651720" y="312408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651720" y="3276360"/>
              <a:ext cx="380880" cy="152280"/>
            </a:xfrm>
            <a:prstGeom prst="cube">
              <a:avLst>
                <a:gd name="adj" fmla="val 25000"/>
              </a:avLst>
            </a:prstGeom>
            <a:solidFill>
              <a:srgbClr val="33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"/>
          <p:cNvSpPr/>
          <p:nvPr/>
        </p:nvSpPr>
        <p:spPr>
          <a:xfrm>
            <a:off x="6858000" y="282096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utput Que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6880320" y="2787120"/>
            <a:ext cx="0" cy="304920"/>
          </a:xfrm>
          <a:prstGeom prst="line">
            <a:avLst/>
          </a:prstGeom>
          <a:ln w="19080">
            <a:solidFill>
              <a:srgbClr val="660066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4T19:42:15Z</dcterms:created>
  <dc:creator>Marshall Schor</dc:creator>
  <dc:description/>
  <dc:language>en-US</dc:language>
  <cp:lastModifiedBy>Eddie Epstein</cp:lastModifiedBy>
  <dcterms:modified xsi:type="dcterms:W3CDTF">2007-03-30T01:44:40Z</dcterms:modified>
  <cp:revision>3</cp:revision>
  <dc:subject/>
  <dc:title>Slide 1</dc:title>
</cp:coreProperties>
</file>