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7C980-BDA1-47BC-BE2C-0E2A8EAB3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51B9-B300-4714-8CB5-22A899EC5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0B0D-6841-4F48-997C-AE44CF9B4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A3F2C-2ABC-43DD-9DAF-BDF7E1BDB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DD77F-9368-4B08-A24A-A7A0DFDD1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3B481-20F8-4CF9-A251-024FC9908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A1ED7-8AC1-4A03-AD4E-1464C0B39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5CD7-303D-4843-8C98-CEDB5B0B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7C004-F43C-4A48-B9CF-F904E7978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8EE91-A117-4D5C-A342-37EB3429C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A7F7-EB18-4367-BA82-74D3FA884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79F-A9AF-495C-9D06-63C453BF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A8A04-DCAE-4531-BEA7-1837B5423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7680" y="1371600"/>
            <a:ext cx="2833920" cy="1905120"/>
          </a:xfrm>
          <a:custGeom>
            <a:avLst/>
            <a:gdLst/>
            <a:ahLst/>
            <a:rect l="l" t="t" r="r" b="b"/>
            <a:pathLst>
              <a:path w="1785" h="1200">
                <a:moveTo>
                  <a:pt x="669" y="0"/>
                </a:moveTo>
                <a:cubicBezTo>
                  <a:pt x="877" y="8"/>
                  <a:pt x="1117" y="0"/>
                  <a:pt x="1293" y="96"/>
                </a:cubicBezTo>
                <a:cubicBezTo>
                  <a:pt x="1469" y="192"/>
                  <a:pt x="1665" y="463"/>
                  <a:pt x="1725" y="576"/>
                </a:cubicBezTo>
                <a:cubicBezTo>
                  <a:pt x="1785" y="689"/>
                  <a:pt x="1709" y="745"/>
                  <a:pt x="1653" y="774"/>
                </a:cubicBezTo>
                <a:cubicBezTo>
                  <a:pt x="1597" y="803"/>
                  <a:pt x="1496" y="753"/>
                  <a:pt x="1389" y="750"/>
                </a:cubicBezTo>
                <a:cubicBezTo>
                  <a:pt x="1282" y="747"/>
                  <a:pt x="1123" y="753"/>
                  <a:pt x="1011" y="756"/>
                </a:cubicBezTo>
                <a:cubicBezTo>
                  <a:pt x="899" y="759"/>
                  <a:pt x="774" y="760"/>
                  <a:pt x="717" y="768"/>
                </a:cubicBezTo>
                <a:cubicBezTo>
                  <a:pt x="660" y="776"/>
                  <a:pt x="678" y="781"/>
                  <a:pt x="669" y="804"/>
                </a:cubicBezTo>
                <a:cubicBezTo>
                  <a:pt x="660" y="827"/>
                  <a:pt x="671" y="847"/>
                  <a:pt x="663" y="906"/>
                </a:cubicBezTo>
                <a:cubicBezTo>
                  <a:pt x="655" y="965"/>
                  <a:pt x="659" y="1116"/>
                  <a:pt x="621" y="1158"/>
                </a:cubicBezTo>
                <a:cubicBezTo>
                  <a:pt x="583" y="1200"/>
                  <a:pt x="497" y="1170"/>
                  <a:pt x="435" y="1158"/>
                </a:cubicBezTo>
                <a:cubicBezTo>
                  <a:pt x="373" y="1146"/>
                  <a:pt x="312" y="1144"/>
                  <a:pt x="249" y="1086"/>
                </a:cubicBezTo>
                <a:cubicBezTo>
                  <a:pt x="186" y="1028"/>
                  <a:pt x="92" y="939"/>
                  <a:pt x="57" y="810"/>
                </a:cubicBezTo>
                <a:cubicBezTo>
                  <a:pt x="22" y="681"/>
                  <a:pt x="31" y="437"/>
                  <a:pt x="39" y="312"/>
                </a:cubicBezTo>
                <a:cubicBezTo>
                  <a:pt x="47" y="187"/>
                  <a:pt x="0" y="112"/>
                  <a:pt x="105" y="60"/>
                </a:cubicBezTo>
                <a:cubicBezTo>
                  <a:pt x="210" y="8"/>
                  <a:pt x="552" y="12"/>
                  <a:pt x="669" y="0"/>
                </a:cubicBezTo>
                <a:close/>
              </a:path>
            </a:pathLst>
          </a:custGeom>
          <a:noFill/>
          <a:ln w="93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114800" y="2666880"/>
            <a:ext cx="2209680" cy="114300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114800" y="990720"/>
            <a:ext cx="2286000" cy="12189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92280" y="1897200"/>
            <a:ext cx="152388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30360" y="2016000"/>
            <a:ext cx="60984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774800" y="2851200"/>
            <a:ext cx="380880" cy="304560"/>
            <a:chOff x="1774800" y="2851200"/>
            <a:chExt cx="380880" cy="304560"/>
          </a:xfrm>
        </p:grpSpPr>
        <p:sp>
          <p:nvSpPr>
            <p:cNvPr id="47" name=""/>
            <p:cNvSpPr/>
            <p:nvPr/>
          </p:nvSpPr>
          <p:spPr>
            <a:xfrm>
              <a:off x="17748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17748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"/>
          <p:cNvSpPr/>
          <p:nvPr/>
        </p:nvSpPr>
        <p:spPr>
          <a:xfrm flipV="1">
            <a:off x="20034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219320" y="253368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1295280" y="3360600"/>
            <a:ext cx="2667240" cy="1084320"/>
            <a:chOff x="1295280" y="3360600"/>
            <a:chExt cx="2667240" cy="1084320"/>
          </a:xfrm>
        </p:grpSpPr>
        <p:sp>
          <p:nvSpPr>
            <p:cNvPr id="52" name=""/>
            <p:cNvSpPr/>
            <p:nvPr/>
          </p:nvSpPr>
          <p:spPr>
            <a:xfrm>
              <a:off x="1295280" y="3420720"/>
              <a:ext cx="2590920" cy="1022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447920" y="3757320"/>
              <a:ext cx="457200" cy="15264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981080" y="368136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447920" y="3985920"/>
              <a:ext cx="457200" cy="15264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81080" y="39700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447920" y="4214520"/>
              <a:ext cx="457200" cy="15264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981080" y="41986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984320" y="3360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2232000" y="2851200"/>
            <a:ext cx="380880" cy="304560"/>
            <a:chOff x="2232000" y="2851200"/>
            <a:chExt cx="380880" cy="304560"/>
          </a:xfrm>
        </p:grpSpPr>
        <p:sp>
          <p:nvSpPr>
            <p:cNvPr id="61" name=""/>
            <p:cNvSpPr/>
            <p:nvPr/>
          </p:nvSpPr>
          <p:spPr>
            <a:xfrm>
              <a:off x="2232000" y="285120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232000" y="30034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2438280" y="25480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2460600" y="251424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724280" y="1351080"/>
            <a:ext cx="1447920" cy="6094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08720" y="1447920"/>
            <a:ext cx="609480" cy="38088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4191120" y="1447560"/>
            <a:ext cx="190080" cy="266760"/>
            <a:chOff x="4191120" y="1447560"/>
            <a:chExt cx="190080" cy="266760"/>
          </a:xfrm>
        </p:grpSpPr>
        <p:sp>
          <p:nvSpPr>
            <p:cNvPr id="68" name=""/>
            <p:cNvSpPr/>
            <p:nvPr/>
          </p:nvSpPr>
          <p:spPr>
            <a:xfrm rot="16200000">
              <a:off x="410508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 rot="16200000">
              <a:off x="4200120" y="153324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3657600" y="2285640"/>
            <a:ext cx="190080" cy="266760"/>
            <a:chOff x="3657600" y="2285640"/>
            <a:chExt cx="190080" cy="266760"/>
          </a:xfrm>
        </p:grpSpPr>
        <p:sp>
          <p:nvSpPr>
            <p:cNvPr id="71" name=""/>
            <p:cNvSpPr/>
            <p:nvPr/>
          </p:nvSpPr>
          <p:spPr>
            <a:xfrm rot="16200000">
              <a:off x="357156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rot="16200000">
              <a:off x="3666600" y="23713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4724280" y="3027240"/>
            <a:ext cx="144792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08720" y="31240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4229280" y="3200040"/>
            <a:ext cx="190080" cy="266760"/>
            <a:chOff x="4229280" y="3200040"/>
            <a:chExt cx="190080" cy="266760"/>
          </a:xfrm>
        </p:grpSpPr>
        <p:sp>
          <p:nvSpPr>
            <p:cNvPr id="76" name=""/>
            <p:cNvSpPr/>
            <p:nvPr/>
          </p:nvSpPr>
          <p:spPr>
            <a:xfrm rot="16200000">
              <a:off x="414324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6200000">
              <a:off x="4238280" y="3285720"/>
              <a:ext cx="266760" cy="9504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3705120" y="120960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705120" y="2952720"/>
            <a:ext cx="1067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95640" y="2028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86200" y="1600200"/>
            <a:ext cx="2938320" cy="857160"/>
          </a:xfrm>
          <a:custGeom>
            <a:avLst/>
            <a:gdLst/>
            <a:ahLst/>
            <a:rect l="l" t="t" r="r" b="b"/>
            <a:pathLst>
              <a:path w="1851" h="540">
                <a:moveTo>
                  <a:pt x="1488" y="0"/>
                </a:moveTo>
                <a:cubicBezTo>
                  <a:pt x="1531" y="24"/>
                  <a:pt x="1734" y="63"/>
                  <a:pt x="1746" y="144"/>
                </a:cubicBezTo>
                <a:cubicBezTo>
                  <a:pt x="1758" y="225"/>
                  <a:pt x="1851" y="432"/>
                  <a:pt x="1560" y="486"/>
                </a:cubicBezTo>
                <a:cubicBezTo>
                  <a:pt x="1269" y="540"/>
                  <a:pt x="325" y="472"/>
                  <a:pt x="0" y="4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886200" y="2448000"/>
            <a:ext cx="2793960" cy="904680"/>
          </a:xfrm>
          <a:custGeom>
            <a:avLst/>
            <a:gdLst/>
            <a:ahLst/>
            <a:rect l="l" t="t" r="r" b="b"/>
            <a:pathLst>
              <a:path w="1760" h="570">
                <a:moveTo>
                  <a:pt x="1488" y="570"/>
                </a:moveTo>
                <a:cubicBezTo>
                  <a:pt x="1592" y="546"/>
                  <a:pt x="1696" y="522"/>
                  <a:pt x="1728" y="474"/>
                </a:cubicBezTo>
                <a:cubicBezTo>
                  <a:pt x="1760" y="426"/>
                  <a:pt x="1736" y="330"/>
                  <a:pt x="1680" y="282"/>
                </a:cubicBezTo>
                <a:cubicBezTo>
                  <a:pt x="1624" y="234"/>
                  <a:pt x="1604" y="227"/>
                  <a:pt x="1392" y="186"/>
                </a:cubicBezTo>
                <a:cubicBezTo>
                  <a:pt x="1180" y="145"/>
                  <a:pt x="640" y="67"/>
                  <a:pt x="408" y="36"/>
                </a:cubicBezTo>
                <a:cubicBezTo>
                  <a:pt x="176" y="5"/>
                  <a:pt x="85" y="8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143160" y="2324160"/>
            <a:ext cx="1057320" cy="1069920"/>
          </a:xfrm>
          <a:custGeom>
            <a:avLst/>
            <a:gdLst/>
            <a:ahLst/>
            <a:rect l="l" t="t" r="r" b="b"/>
            <a:pathLst>
              <a:path w="666" h="674">
                <a:moveTo>
                  <a:pt x="0" y="0"/>
                </a:moveTo>
                <a:cubicBezTo>
                  <a:pt x="68" y="95"/>
                  <a:pt x="291" y="466"/>
                  <a:pt x="402" y="570"/>
                </a:cubicBezTo>
                <a:cubicBezTo>
                  <a:pt x="513" y="674"/>
                  <a:pt x="611" y="613"/>
                  <a:pt x="666" y="624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143160" y="1539720"/>
            <a:ext cx="1000080" cy="393840"/>
          </a:xfrm>
          <a:custGeom>
            <a:avLst/>
            <a:gdLst/>
            <a:ahLst/>
            <a:rect l="l" t="t" r="r" b="b"/>
            <a:pathLst>
              <a:path w="630" h="248">
                <a:moveTo>
                  <a:pt x="0" y="248"/>
                </a:moveTo>
                <a:cubicBezTo>
                  <a:pt x="54" y="212"/>
                  <a:pt x="219" y="76"/>
                  <a:pt x="324" y="38"/>
                </a:cubicBezTo>
                <a:cubicBezTo>
                  <a:pt x="429" y="0"/>
                  <a:pt x="566" y="24"/>
                  <a:pt x="630" y="2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494000" y="163836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greg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0" y="109044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81360" y="276696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legate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419720" y="1600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419720" y="33526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H="1" flipV="1">
            <a:off x="3124080" y="2209680"/>
            <a:ext cx="53352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54:11Z</dcterms:created>
  <dc:creator>Marshall Schor</dc:creator>
  <dc:description/>
  <dc:language>en-US</dc:language>
  <cp:lastModifiedBy>Eddie Epstein</cp:lastModifiedBy>
  <dcterms:modified xsi:type="dcterms:W3CDTF">2007-03-30T01:43:38Z</dcterms:modified>
  <cp:revision>4</cp:revision>
  <dc:subject/>
  <dc:title>Slide 1</dc:title>
</cp:coreProperties>
</file>